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707-E4FF-4109-9186-2F356824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839-A5DA-4F47-9F8D-9FE369A0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BE6-E631-4458-8416-B0EEF6CB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058-4256-4A1B-8EBF-52736804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A10-5F48-43CB-A0B6-83CCC18B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DA9-76EA-475F-BF1F-4429A8B5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156-F6B3-4B40-B3CE-BD79E497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4BD-6AB4-4697-A9C3-F0759474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5E0-C809-46EA-8DD8-FC1C6E2F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F2A-8167-4375-B95E-55DC1C93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E74-9711-41A3-8E9A-16D902D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3D9-E7A2-42E5-AB3A-D227E0A5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6870-BE3C-4E93-8676-791D32FF9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voices.washingtonpost.com/federal-eye/2011/01/challengers_lessons_25_years_l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_x000c_sideflag.jpg                                                   000A4ABA_x000c_Macintosh HD                   B8436632:"/>
          <p:cNvPicPr/>
          <p:nvPr/>
        </p:nvPicPr>
        <p:blipFill>
          <a:blip r:embed="rId1"/>
          <a:srcRect l="6954" t="-15" r="9014" b="3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_x000c_sideflag.jpg                                                   000A4ABA_x000c_Macintosh HD                   B8436632:"/>
          <p:cNvPicPr/>
          <p:nvPr/>
        </p:nvPicPr>
        <p:blipFill>
          <a:blip r:embed="rId2"/>
          <a:srcRect l="8409" t="0" r="7559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alatino"/>
              </a:rPr>
              <a:t>Ronald Reaga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1981-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ga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Domestic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Federal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C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to boost economy by giving money back to business to invest and spend in new plants and new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boom would increase tax revenues even at lower 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t taxes across the board by 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ga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Domestic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Military S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lanced budget for 3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to reduce the government's commitment to affirmative action for min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in negotiating with Soviets from a position of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to create a laser-based system to shoot down nuclear weapons called SDI (Strategic Defense Initi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ttps://encrypted-tbn0.google.com/images?q=tbn:ANd9GcRRXpA09lvOujTZvZDpPUWjsoSw9hpbR8GJ2ZRrX_Zgllp7kcXWZw"/>
          <p:cNvPicPr/>
          <p:nvPr/>
        </p:nvPicPr>
        <p:blipFill>
          <a:blip r:embed="rId1"/>
          <a:stretch/>
        </p:blipFill>
        <p:spPr>
          <a:xfrm>
            <a:off x="7086600" y="4114800"/>
            <a:ext cx="1866960" cy="2457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images.wikia.com/conworld/images/9/9e/Reagan_SDI_Diagram.jpg"/>
          <p:cNvPicPr/>
          <p:nvPr/>
        </p:nvPicPr>
        <p:blipFill>
          <a:blip r:embed="rId2"/>
          <a:stretch/>
        </p:blipFill>
        <p:spPr>
          <a:xfrm>
            <a:off x="76320" y="0"/>
            <a:ext cx="89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_x0018_147_Reagan-Gorbachev.jpg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4495680" y="2666880"/>
            <a:ext cx="3657600" cy="2494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hail Gorbachev installed as chairman of Soviet Communist Party 19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ed new policies of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asnost- openn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estroika-restru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es led to détente, or lessening of 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summits led to friendship and cooperation between Gorbachev and Rea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_x000c_detente1.jpg                                                   000A4ABA_x000c_Macintosh HD                   B8436632:"/>
          <p:cNvPicPr/>
          <p:nvPr/>
        </p:nvPicPr>
        <p:blipFill>
          <a:blip r:embed="rId2"/>
          <a:stretch/>
        </p:blipFill>
        <p:spPr>
          <a:xfrm>
            <a:off x="6705720" y="380880"/>
            <a:ext cx="2020680" cy="2667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_x000c_detente2.jpg                                                   000A4ABA_x000c_Macintosh HD                   B8436632:"/>
          <p:cNvPicPr/>
          <p:nvPr/>
        </p:nvPicPr>
        <p:blipFill>
          <a:blip r:embed="rId3"/>
          <a:stretch/>
        </p:blipFill>
        <p:spPr>
          <a:xfrm>
            <a:off x="5715000" y="4419720"/>
            <a:ext cx="26496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Sl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Describe the reasons Reagan was elected in 19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List 1 Domestic Goal of Rea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List 1 Foreign Policy Goal of Rea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American dominance in Carib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ored dominance of gov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in Gre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vert aid to contra rebels in Nicar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raid on Libya in retaliation for terrorist attacks including one on a West Berlin discotheque, killing one American service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&#10;lib_b1.jpg         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685800" y="2567160"/>
            <a:ext cx="3809880" cy="29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an-Contra Scand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ress refused to back aid to contra rebels fighting a Marxist gov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in 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age Crisis in Middle East, Iran and Lebanon hint that arms trade could release ho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&#10;contra.jpg         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5030640" y="1981080"/>
            <a:ext cx="304488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an-Contra Scand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gan makes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for hostag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als with I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uses profit from arms sales to aid contra rebels in 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s leaks out, and cover-up proceeds, including missing tapes, lots of lying, and trials in which Reagan seems very flustered (perhaps an early sign of his Alzheimer'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gan somehow remained one of the most popular presidents, nicknamed th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flon Ma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gan appointed a near majority of Supreme Court justices during his term, mostly conservative-mi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llowed him to control rulings over such issues as abortion and affirmative 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d first female justice Sandra Day O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or, sworn in Sept. 25,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_x000b_OConnor.jpg        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1015920" y="1676520"/>
            <a:ext cx="2946600" cy="4419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he Presi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nald Reagan was born February 6, 1911 in Tampico Illino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c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ed Eureka College and majored in sociology and 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successful career in radio and movies and made 53 films over two dec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_x0013_rr_announcer_lg.jpg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4648320" y="259092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 Trou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Budget Deficit and international trade deficit g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prices failed and blighted economy of South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banks and savings institutions failed than in the Great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Market Crash-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Monda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tober 19, 1987 crashed 508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&#10;744254.jpg         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6324480" y="1447920"/>
            <a:ext cx="2428920" cy="3962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_x0008_1987.jpg                                                       000A4ABA_x000c_Macintosh HD                   B8436632:"/>
          <p:cNvPicPr/>
          <p:nvPr/>
        </p:nvPicPr>
        <p:blipFill>
          <a:blip r:embed="rId2"/>
          <a:stretch/>
        </p:blipFill>
        <p:spPr>
          <a:xfrm>
            <a:off x="4495680" y="4267080"/>
            <a:ext cx="3429000" cy="212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_x0007_87e.jpg                                                        000A4ABA_x000c_Macintosh HD                   B8436632:"/>
          <p:cNvPicPr/>
          <p:nvPr/>
        </p:nvPicPr>
        <p:blipFill>
          <a:blip r:embed="rId3"/>
          <a:stretch/>
        </p:blipFill>
        <p:spPr>
          <a:xfrm>
            <a:off x="4419720" y="198108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allenger Explo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5268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6 Space Shuttle Challenger Explodes 73 seconds after take off from Cape Canaveral in Flor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https://encrypted-tbn2.google.com/images?q=tbn:ANd9GcRalv9NvA0NHZLBuRzLlaCoIpx2gydCV1aJunK13vO5ZOsQq-SQ"/>
          <p:cNvPicPr/>
          <p:nvPr/>
        </p:nvPicPr>
        <p:blipFill>
          <a:blip r:embed="rId2"/>
          <a:stretch/>
        </p:blipFill>
        <p:spPr>
          <a:xfrm>
            <a:off x="304920" y="441972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s://encrypted-tbn1.google.com/images?q=tbn:ANd9GcQgW0Bi_r_iulWYfiakJItzUP_mBkLxtjydRB8b71aMNvJStI8U"/>
          <p:cNvPicPr/>
          <p:nvPr/>
        </p:nvPicPr>
        <p:blipFill>
          <a:blip r:embed="rId3"/>
          <a:stretch/>
        </p:blipFill>
        <p:spPr>
          <a:xfrm>
            <a:off x="6553080" y="426708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s://encrypted-tbn1.google.com/images?q=tbn:ANd9GcQuCUKdG5Su1AFXhn3GkDT5tb4Dy1--dVJ3H7TM57seDb3CDWA"/>
          <p:cNvPicPr/>
          <p:nvPr/>
        </p:nvPicPr>
        <p:blipFill>
          <a:blip r:embed="rId4"/>
          <a:stretch/>
        </p:blipFill>
        <p:spPr>
          <a:xfrm>
            <a:off x="7458120" y="15840"/>
            <a:ext cx="1685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he Presi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Governor of California in 1966 by a margin of a million votes and re-elected in 19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Reagan W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blicans in US upset with Democrats (Carter) and Affirmativ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vored th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ma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big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zed less government spe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_x0010_reagan photo.jpg                                               000A4ABA_x000c_Macintosh HD                   B8436632:"/>
          <p:cNvPicPr/>
          <p:nvPr/>
        </p:nvPicPr>
        <p:blipFill>
          <a:blip r:embed="rId1"/>
          <a:stretch/>
        </p:blipFill>
        <p:spPr>
          <a:xfrm>
            <a:off x="304920" y="1981080"/>
            <a:ext cx="326376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gents of Univ. of California v. Bakke (1978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White medical student denied admission due to affirmativ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More qualified than all other minority candidates admitt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School “saved” 16 spots out of 100 for minorities to be more “diver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Supreme Court ruled this unconstitutional and allowed white studen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http://presidentelect.org/images/e1980_ecma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w 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k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te, middle clas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ew Right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y Americans, corporate leaders, Christians, Catholic ethnics, and white blue-collar work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a dislike for federal intervention in economic and cultural af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not like public policies that favored minorities, welfare recipients, feminists, homosexuals, and others who seemed to seek preferential treatment from the gover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New Right Qu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've noticed that everybody that is for abortion has already been born.  ~Ronald Reagan, quoted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w York 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2 September 1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e v. Wa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973), Supreme Court case where abortion was declared leg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http://presidentelect.org/images/e1984_ecma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22:23:52Z</dcterms:created>
  <dc:creator>Dillon Henry</dc:creator>
  <dc:description/>
  <dc:language>en-US</dc:language>
  <cp:lastModifiedBy>Mark Scacewater</cp:lastModifiedBy>
  <dcterms:modified xsi:type="dcterms:W3CDTF">2012-04-19T15:33:36Z</dcterms:modified>
  <cp:revision>14</cp:revision>
  <dc:subject/>
  <dc:title>Ronald Reagan</dc:title>
</cp:coreProperties>
</file>